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gif" ContentType="image/gif"/>
  <Override PartName="/ppt/media/image6.png" ContentType="image/png"/>
  <Override PartName="/ppt/media/chimes.wav" ContentType="audio/x-wav"/>
  <Override PartName="/ppt/media/image8.png" ContentType="image/png"/>
  <Override PartName="/ppt/media/image4.png" ContentType="image/png"/>
  <Override PartName="/ppt/media/image5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211E4-3C43-4023-A81E-D63F5D653E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382F0-557A-4E1F-B8AF-51B84B3C305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36D35-A93E-4BA8-8D30-984C98FAC62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EB957-879F-43F0-BB6A-1716EF45EDE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539BC-B8E4-4726-B402-E4D4582075A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828FF-1E09-42E7-8530-1F1631ED631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3B89-DF8C-400A-92DD-3B7FB9B50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4209-B8E3-43AE-8F7A-46EA39B06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7F99-1F79-4D11-BC03-F9461879B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6321-9C77-4F4A-BE98-770A187A2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0459B-CAEF-49E8-A193-85834CAB9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18299-0BC7-4B55-A820-06B5A3C4C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DE30C-4F3E-4C65-A5BE-84ED9B877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EE987-B1F4-4D48-8AC4-6A42534D2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5D1A4-00ED-4135-838D-79CB76F62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FA63C-42CF-4342-9D84-E48C46768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EE243-A702-4DBB-A299-DCB2AE468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A69F-84E0-47BD-97D5-942CCCE67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A1891-4DFB-428E-804E-8899348EB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F66E0-CD04-4BF1-A5FC-B3DE50C99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B8663-70AD-4396-92E6-A6B0035BB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8748C-5F64-4586-A457-B1A067DB2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7D436-42A3-4A6D-92DD-658D14615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04DD-FE30-4780-BD7E-C4633E012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E181-A6F6-43E0-AF3F-80DDC107A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342D-F3D8-4EEE-9410-DBDF722C9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DF95-0B2D-4BD0-9BF1-613583EFD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A81C-854C-4FC8-92CF-E81D7FB57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323B-3042-45DD-9396-6D04A0B3F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FDBC-65E8-476A-9823-B6D0EB2ED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9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8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9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10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11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17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18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19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20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21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22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Freeform 23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Rectangle 25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27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28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29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30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Rectangle 34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35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36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Freeform 37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38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39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Freeform 40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Freeform 41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Freeform 42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Freeform 43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Rectangle 44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4D96D-C245-4287-A0A4-13445798BC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50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35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Freeform 36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37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38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1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2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3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4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15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Freeform 16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Freeform 17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Rectangle 18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Freeform 20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Freeform 21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Freeform 22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Freeform 23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Rectangle 27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Freeform 28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29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Freeform 30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Freeform 31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Freeform 32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Freeform 33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Freeform 34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Freeform 35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Freeform 36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Rectangle 37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Rectangle 45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Rectangle 46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Picture 43" descr="BTZBUL1A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147A3-4200-4510-B62D-E8C8951CDF7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RIGHTS OF BRITISH CITIZENS ONQ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 QUES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t the answer on a separate piece of pap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may use your not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nk You for following direc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863280"/>
            <a:ext cx="9144000" cy="144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1. What are the two divisions of British Parliament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52" name="Picture 5" descr=""/>
          <p:cNvPicPr/>
          <p:nvPr/>
        </p:nvPicPr>
        <p:blipFill>
          <a:blip r:embed="rId2"/>
          <a:stretch/>
        </p:blipFill>
        <p:spPr>
          <a:xfrm>
            <a:off x="1828800" y="2971800"/>
            <a:ext cx="5388120" cy="358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525240"/>
            <a:ext cx="9144000" cy="212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2. Under Common Law, the system is based upon </a:t>
            </a:r>
            <a:br>
              <a:rPr sz="4400"/>
            </a:b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court _______.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55" name="Picture 5" descr=""/>
          <p:cNvPicPr/>
          <p:nvPr/>
        </p:nvPicPr>
        <p:blipFill>
          <a:blip r:embed="rId2"/>
          <a:stretch/>
        </p:blipFill>
        <p:spPr>
          <a:xfrm>
            <a:off x="2209680" y="3124080"/>
            <a:ext cx="4267440" cy="32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525240"/>
            <a:ext cx="9144000" cy="212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3. Name the first legislative assembly established in America.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58" name="Picture 5" descr=""/>
          <p:cNvPicPr/>
          <p:nvPr/>
        </p:nvPicPr>
        <p:blipFill>
          <a:blip r:embed="rId2"/>
          <a:stretch/>
        </p:blipFill>
        <p:spPr>
          <a:xfrm>
            <a:off x="2743200" y="2774880"/>
            <a:ext cx="3925800" cy="404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525240"/>
            <a:ext cx="9144000" cy="212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4. What economic system were the American colonies based on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61" name="Picture 6" descr=""/>
          <p:cNvPicPr/>
          <p:nvPr/>
        </p:nvPicPr>
        <p:blipFill>
          <a:blip r:embed="rId2"/>
          <a:stretch/>
        </p:blipFill>
        <p:spPr>
          <a:xfrm>
            <a:off x="1981080" y="3048120"/>
            <a:ext cx="4343400" cy="31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185400"/>
            <a:ext cx="9144000" cy="280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5. Name the policy in which the colonies were allowed self-rule as long as England benefitted.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64" name="Picture 5" descr=""/>
          <p:cNvPicPr/>
          <p:nvPr/>
        </p:nvPicPr>
        <p:blipFill>
          <a:blip r:embed="rId2"/>
          <a:stretch/>
        </p:blipFill>
        <p:spPr>
          <a:xfrm>
            <a:off x="2438280" y="3276720"/>
            <a:ext cx="4570560" cy="2895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1T13:44:01Z</dcterms:created>
  <dc:creator>THOMAS_SAUER</dc:creator>
  <dc:description/>
  <dc:language>en-US</dc:language>
  <cp:lastModifiedBy>SysAdmin</cp:lastModifiedBy>
  <dcterms:modified xsi:type="dcterms:W3CDTF">2012-01-25T16:34:08Z</dcterms:modified>
  <cp:revision>129</cp:revision>
  <dc:subject/>
  <dc:title>D/O: TO EXPLAIN AND IDENTIFY PROBLEMS OF ECONOMICS</dc:title>
</cp:coreProperties>
</file>